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0 Imagen" descr="Cintillo_Gob_LineaComunicac.gif"/>
          <p:cNvPicPr/>
          <p:nvPr/>
        </p:nvPicPr>
        <p:blipFill>
          <a:blip r:embed="rId2"/>
          <a:srcRect l="474" t="11339" r="947" b="1627"/>
          <a:stretch/>
        </p:blipFill>
        <p:spPr>
          <a:xfrm>
            <a:off x="0" y="6362640"/>
            <a:ext cx="9144000" cy="495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Cintillo Superior trio_p2"/>
          <p:cNvPicPr/>
          <p:nvPr/>
        </p:nvPicPr>
        <p:blipFill>
          <a:blip r:embed="rId3"/>
          <a:stretch/>
        </p:blipFill>
        <p:spPr>
          <a:xfrm>
            <a:off x="0" y="0"/>
            <a:ext cx="91440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2642760"/>
            <a:ext cx="604836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f497d"/>
                </a:solidFill>
                <a:latin typeface="Arial Black"/>
              </a:rPr>
              <a:t>Sitio Seleccionado Para</a:t>
            </a: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Arial Black"/>
              </a:rPr>
              <a:t>Colocación de</a:t>
            </a: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Arial Black"/>
              </a:rPr>
              <a:t>Generación de Respuesta</a:t>
            </a: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Arial Black"/>
              </a:rPr>
              <a:t>Rápida (GR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276360" y="5745240"/>
            <a:ext cx="19429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Calibri"/>
              </a:rPr>
              <a:t>Agosto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9" descr="S[1]"/>
          <p:cNvPicPr/>
          <p:nvPr/>
        </p:nvPicPr>
        <p:blipFill>
          <a:blip r:embed="rId1"/>
          <a:stretch/>
        </p:blipFill>
        <p:spPr>
          <a:xfrm>
            <a:off x="108000" y="909720"/>
            <a:ext cx="1944720" cy="11570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PLANT-LCACERES-42"/>
          <p:cNvPicPr/>
          <p:nvPr/>
        </p:nvPicPr>
        <p:blipFill>
          <a:blip r:embed="rId2"/>
          <a:stretch/>
        </p:blipFill>
        <p:spPr>
          <a:xfrm>
            <a:off x="108000" y="213372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PLANT-LCACERES-32"/>
          <p:cNvPicPr/>
          <p:nvPr/>
        </p:nvPicPr>
        <p:blipFill>
          <a:blip r:embed="rId3"/>
          <a:stretch/>
        </p:blipFill>
        <p:spPr>
          <a:xfrm>
            <a:off x="108000" y="3543480"/>
            <a:ext cx="1944720" cy="125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Gente_seneca-111"/>
          <p:cNvPicPr/>
          <p:nvPr/>
        </p:nvPicPr>
        <p:blipFill>
          <a:blip r:embed="rId4"/>
          <a:stretch/>
        </p:blipFill>
        <p:spPr>
          <a:xfrm>
            <a:off x="108000" y="4870440"/>
            <a:ext cx="1942920" cy="1295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VP_0411"/>
          <p:cNvPicPr/>
          <p:nvPr/>
        </p:nvPicPr>
        <p:blipFill>
          <a:blip r:embed="rId1"/>
          <a:srcRect l="16418" t="35097" r="22526" b="0"/>
          <a:stretch/>
        </p:blipFill>
        <p:spPr>
          <a:xfrm>
            <a:off x="714240" y="1000080"/>
            <a:ext cx="7274160" cy="51688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4138560" y="3645000"/>
            <a:ext cx="577800" cy="577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232680" y="4581360"/>
            <a:ext cx="2442960" cy="1224000"/>
          </a:xfrm>
          <a:prstGeom prst="borderCallout1">
            <a:avLst>
              <a:gd name="adj1" fmla="val 18750"/>
              <a:gd name="adj2" fmla="val -8333"/>
              <a:gd name="adj3" fmla="val -41375"/>
              <a:gd name="adj4" fmla="val -59453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pacio para Empresa de Montaje GRR PT L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50 x 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GRR_01"/>
          <p:cNvPicPr/>
          <p:nvPr/>
        </p:nvPicPr>
        <p:blipFill>
          <a:blip r:embed="rId1"/>
          <a:stretch/>
        </p:blipFill>
        <p:spPr>
          <a:xfrm>
            <a:off x="1042920" y="2155680"/>
            <a:ext cx="6486480" cy="401004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V="1">
            <a:off x="5435640" y="4100040"/>
            <a:ext cx="122400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19640" y="4532400"/>
            <a:ext cx="2016000" cy="21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4643280" y="3882960"/>
            <a:ext cx="201636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3419640" y="3882600"/>
            <a:ext cx="122364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5940360" y="3429000"/>
            <a:ext cx="1728720" cy="598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667640" y="30924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Sitio Selecc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4354200" y="2060640"/>
            <a:ext cx="15858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580000" y="1557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Generador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79280" y="155736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Sala de Mando (Tabler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971640" y="1989000"/>
            <a:ext cx="194292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39640" y="9669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Planta Luisa Cáceres de Arismendi. Ubicada en: Sector Macho Muerto vía El Silguero, Municipio Mariño del Estado Nueva Espa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792440" y="907920"/>
            <a:ext cx="4400280" cy="540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700360" y="2565360"/>
            <a:ext cx="3456000" cy="3456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067280" y="602136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580000" y="2565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508720" y="1916280"/>
            <a:ext cx="64764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156360" y="407664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156360" y="2187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912000" y="587700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Longitudes en 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6804000" y="190332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Generador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615600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156360" y="1268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6227640" y="146844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516720" y="836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Muro Subes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 flipH="1">
            <a:off x="6084720" y="981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 flipH="1">
            <a:off x="5219640" y="12524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H="1" flipV="1">
            <a:off x="4932360" y="963720"/>
            <a:ext cx="2872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5"/>
          <p:cNvSpPr/>
          <p:nvPr/>
        </p:nvSpPr>
        <p:spPr>
          <a:xfrm flipH="1">
            <a:off x="539640" y="96372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4932360" y="98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500720" y="96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1763640" y="1268280"/>
            <a:ext cx="1727280" cy="8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 flipV="1">
            <a:off x="971640" y="1916280"/>
            <a:ext cx="79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179280" y="2205000"/>
            <a:ext cx="11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Sala de Mando (Tabler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7308720" y="335772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Sitio Selecc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4"/>
          <p:cNvSpPr/>
          <p:nvPr/>
        </p:nvSpPr>
        <p:spPr>
          <a:xfrm flipH="1">
            <a:off x="6156000" y="364500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219720" cy="4667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780000" y="96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Vista Fro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461960" y="1498680"/>
            <a:ext cx="6220080" cy="466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780000" y="963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Vista 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461960" y="1498680"/>
            <a:ext cx="6220080" cy="4667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780000" y="963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Vista 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461960" y="1569960"/>
            <a:ext cx="6220080" cy="4667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780000" y="963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Vista Pos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GRR Ruta Escombros"/>
          <p:cNvPicPr/>
          <p:nvPr/>
        </p:nvPicPr>
        <p:blipFill>
          <a:blip r:embed="rId1"/>
          <a:stretch/>
        </p:blipFill>
        <p:spPr>
          <a:xfrm>
            <a:off x="2124000" y="1273320"/>
            <a:ext cx="5448240" cy="5108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116000" y="96372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Ruta tentativa de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CA al sitio de bote de escombros de la demol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332000" y="587700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734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Salida L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619280" y="27813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2349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Vertedero El Pi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50920" y="400536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Distancia Aproxima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8928 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4" descr="LVP_0425"/>
          <p:cNvPicPr/>
          <p:nvPr/>
        </p:nvPicPr>
        <p:blipFill>
          <a:blip r:embed="rId1"/>
          <a:stretch/>
        </p:blipFill>
        <p:spPr>
          <a:xfrm>
            <a:off x="1258920" y="1268280"/>
            <a:ext cx="7416720" cy="4961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116000" y="96372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Posible Área para Reubicación de Chatarr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4797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Reub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 flipV="1">
            <a:off x="2409840" y="4797360"/>
            <a:ext cx="43344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762200" y="5300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2266920" y="4797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V="1">
            <a:off x="1762200" y="4797360"/>
            <a:ext cx="50472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187280" y="5013360"/>
            <a:ext cx="792360" cy="1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3:09:10Z</dcterms:created>
  <dc:creator>agonzalezv</dc:creator>
  <dc:description/>
  <dc:language>en-US</dc:language>
  <cp:lastModifiedBy>Isaias Briceño</cp:lastModifiedBy>
  <dcterms:modified xsi:type="dcterms:W3CDTF">2009-07-03T11:46:45Z</dcterms:modified>
  <cp:revision>73</cp:revision>
  <dc:subject/>
  <dc:title>Diapositiva 1</dc:title>
</cp:coreProperties>
</file>